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960-FF03-42E7-873E-473A36DA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304-5302-4581-81F2-5F4C4173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379-3C8E-45B4-AE27-3FE573A3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74B-7AF1-45D5-AA3C-B918CC15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944-8824-4421-AED5-D0B2F345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A83-0CB8-43D4-826C-C27C418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E88-5326-4DBC-A31B-C6F91792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145-CC1B-4384-B6F5-6622C510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B86-4B65-4000-9D0F-6815F58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016-B507-4D94-BA5E-3DC5CF9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504-D86C-4BE2-9A30-A15335F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4C9-09E9-4EF0-B48B-F355DCB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7FC9-5E55-4CB7-BA38-894D9023E49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FEED-5559-4F2A-9483-91DE0FA3E43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0" y="2349360"/>
            <a:ext cx="2124000" cy="1511280"/>
          </a:xfrm>
          <a:prstGeom prst="rect">
            <a:avLst/>
          </a:prstGeom>
          <a:solidFill>
            <a:srgbClr val="d8b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>
            <a:off x="2124000" y="2349360"/>
            <a:ext cx="7020000" cy="151128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4"/>
          <p:cNvSpPr/>
          <p:nvPr/>
        </p:nvSpPr>
        <p:spPr>
          <a:xfrm>
            <a:off x="2286000" y="2571840"/>
            <a:ext cx="1143000" cy="1143000"/>
          </a:xfrm>
          <a:prstGeom prst="ellipse">
            <a:avLst/>
          </a:prstGeom>
          <a:solidFill>
            <a:srgbClr val="d8b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5640" y="2500200"/>
            <a:ext cx="655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a71a55"/>
                </a:solidFill>
                <a:latin typeface="黑体"/>
                <a:ea typeface="黑体"/>
              </a:rPr>
              <a:t>31.2 </a:t>
            </a:r>
            <a:r>
              <a:rPr b="1" lang="en-US" sz="3200" spc="-1" strike="noStrike">
                <a:solidFill>
                  <a:srgbClr val="a71a55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随机事件与概率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0" y="7142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义务教育教科书    数学   九年级   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1499400"/>
            <a:ext cx="46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由定义可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133720"/>
            <a:ext cx="91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率反映了随机事件发生的可能性的大小。事件发生的可能性越大，它的概率越接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反之，事件发生的可能性越小，它的概率越接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0" y="3645000"/>
            <a:ext cx="8077320" cy="1077840"/>
            <a:chOff x="0" y="3645000"/>
            <a:chExt cx="8077320" cy="1077840"/>
          </a:xfrm>
        </p:grpSpPr>
        <p:sp>
          <p:nvSpPr>
            <p:cNvPr id="164" name="Text Box 6"/>
            <p:cNvSpPr/>
            <p:nvPr/>
          </p:nvSpPr>
          <p:spPr>
            <a:xfrm>
              <a:off x="0" y="364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必然事件的概率为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不可能事件的概率为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．因此    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Object 7" descr=""/>
            <p:cNvPicPr/>
            <p:nvPr/>
          </p:nvPicPr>
          <p:blipFill>
            <a:blip r:embed="rId1"/>
            <a:stretch/>
          </p:blipFill>
          <p:spPr>
            <a:xfrm>
              <a:off x="2857680" y="4143600"/>
              <a:ext cx="20160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13"/>
          <p:cNvGrpSpPr/>
          <p:nvPr/>
        </p:nvGrpSpPr>
        <p:grpSpPr>
          <a:xfrm>
            <a:off x="925200" y="5072040"/>
            <a:ext cx="6274080" cy="665280"/>
            <a:chOff x="925200" y="5072040"/>
            <a:chExt cx="6274080" cy="665280"/>
          </a:xfrm>
        </p:grpSpPr>
        <p:sp>
          <p:nvSpPr>
            <p:cNvPr id="167" name="Rectangle 11"/>
            <p:cNvSpPr/>
            <p:nvPr/>
          </p:nvSpPr>
          <p:spPr>
            <a:xfrm>
              <a:off x="925200" y="5072040"/>
              <a:ext cx="304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随机事件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Object 12" descr=""/>
            <p:cNvPicPr/>
            <p:nvPr/>
          </p:nvPicPr>
          <p:blipFill>
            <a:blip r:embed="rId2"/>
            <a:stretch/>
          </p:blipFill>
          <p:spPr>
            <a:xfrm>
              <a:off x="4967280" y="5072040"/>
              <a:ext cx="2232000" cy="6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70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85840" y="15714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例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掷一枚骰子，观察向上一面的点数，求下列事件的概率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①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为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为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②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为奇数。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 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为奇数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③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大于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且小于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5.            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 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大于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且小于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5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8" name="Object 2" descr=""/>
          <p:cNvPicPr/>
          <p:nvPr/>
        </p:nvPicPr>
        <p:blipFill>
          <a:blip r:embed="rId1"/>
          <a:stretch/>
        </p:blipFill>
        <p:spPr>
          <a:xfrm>
            <a:off x="-1981080" y="314172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4" descr=""/>
          <p:cNvPicPr/>
          <p:nvPr/>
        </p:nvPicPr>
        <p:blipFill>
          <a:blip r:embed="rId2"/>
          <a:stretch/>
        </p:blipFill>
        <p:spPr>
          <a:xfrm>
            <a:off x="3929040" y="2928960"/>
            <a:ext cx="720720" cy="12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Object 5" descr=""/>
          <p:cNvPicPr/>
          <p:nvPr/>
        </p:nvPicPr>
        <p:blipFill>
          <a:blip r:embed="rId3"/>
          <a:stretch/>
        </p:blipFill>
        <p:spPr>
          <a:xfrm>
            <a:off x="4643280" y="4071960"/>
            <a:ext cx="1285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Object 6" descr=""/>
          <p:cNvPicPr/>
          <p:nvPr/>
        </p:nvPicPr>
        <p:blipFill>
          <a:blip r:embed="rId4"/>
          <a:stretch/>
        </p:blipFill>
        <p:spPr>
          <a:xfrm>
            <a:off x="5786280" y="5286240"/>
            <a:ext cx="122400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2" name="Group 9"/>
          <p:cNvGrpSpPr/>
          <p:nvPr/>
        </p:nvGrpSpPr>
        <p:grpSpPr>
          <a:xfrm>
            <a:off x="0" y="500040"/>
            <a:ext cx="3142440" cy="947160"/>
            <a:chOff x="0" y="500040"/>
            <a:chExt cx="3142440" cy="947160"/>
          </a:xfrm>
        </p:grpSpPr>
        <p:sp>
          <p:nvSpPr>
            <p:cNvPr id="183" name="Rectangle 10"/>
            <p:cNvSpPr/>
            <p:nvPr/>
          </p:nvSpPr>
          <p:spPr>
            <a:xfrm>
              <a:off x="0" y="860760"/>
              <a:ext cx="292608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975240" y="500040"/>
              <a:ext cx="216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运用规律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08360" y="806040"/>
              <a:ext cx="866880" cy="2185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433440" y="982800"/>
              <a:ext cx="21636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08360" y="587520"/>
              <a:ext cx="866880" cy="272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108360" y="532800"/>
              <a:ext cx="864720" cy="1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433440" y="532800"/>
              <a:ext cx="216360" cy="54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4929120" y="3714840"/>
            <a:ext cx="3571920" cy="2357280"/>
            <a:chOff x="4929120" y="3714840"/>
            <a:chExt cx="3571920" cy="2357280"/>
          </a:xfrm>
        </p:grpSpPr>
        <p:pic>
          <p:nvPicPr>
            <p:cNvPr id="191" name="Object 3" descr=""/>
            <p:cNvPicPr/>
            <p:nvPr/>
          </p:nvPicPr>
          <p:blipFill>
            <a:blip r:embed="rId1"/>
            <a:stretch/>
          </p:blipFill>
          <p:spPr>
            <a:xfrm>
              <a:off x="4929120" y="3714840"/>
              <a:ext cx="3571920" cy="23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Group 4"/>
            <p:cNvGrpSpPr/>
            <p:nvPr/>
          </p:nvGrpSpPr>
          <p:grpSpPr>
            <a:xfrm>
              <a:off x="6674760" y="3972240"/>
              <a:ext cx="214200" cy="814320"/>
              <a:chOff x="6674760" y="3972240"/>
              <a:chExt cx="214200" cy="814320"/>
            </a:xfrm>
          </p:grpSpPr>
          <p:sp>
            <p:nvSpPr>
              <p:cNvPr id="193" name="Line 5"/>
              <p:cNvSpPr/>
              <p:nvPr/>
            </p:nvSpPr>
            <p:spPr>
              <a:xfrm flipV="1">
                <a:off x="6674760" y="3972240"/>
                <a:ext cx="214200" cy="81432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6674760" y="4569480"/>
                <a:ext cx="106560" cy="9324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Text Box 7"/>
          <p:cNvSpPr/>
          <p:nvPr/>
        </p:nvSpPr>
        <p:spPr>
          <a:xfrm>
            <a:off x="0" y="15717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：是一个转盘，转盘分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相同的扇形，颜色分为红黄绿三种，指针固定，转动转盘后任其自由停止，某个扇形会停在指针所指的位置，（指针指向交线时当作指向右边的扇形）求下列事件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向红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指向红色或黄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不指向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0" y="500040"/>
            <a:ext cx="3142440" cy="947160"/>
            <a:chOff x="0" y="500040"/>
            <a:chExt cx="3142440" cy="947160"/>
          </a:xfrm>
        </p:grpSpPr>
        <p:sp>
          <p:nvSpPr>
            <p:cNvPr id="197" name="Rectangle 10"/>
            <p:cNvSpPr/>
            <p:nvPr/>
          </p:nvSpPr>
          <p:spPr>
            <a:xfrm>
              <a:off x="0" y="860760"/>
              <a:ext cx="292608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975240" y="500040"/>
              <a:ext cx="216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运用规律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08360" y="806040"/>
              <a:ext cx="866880" cy="2185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433440" y="982800"/>
              <a:ext cx="21636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108360" y="587520"/>
              <a:ext cx="866880" cy="272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/>
            <p:cNvSpPr/>
            <p:nvPr/>
          </p:nvSpPr>
          <p:spPr>
            <a:xfrm>
              <a:off x="108360" y="532800"/>
              <a:ext cx="864720" cy="1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"/>
            <p:cNvSpPr/>
            <p:nvPr/>
          </p:nvSpPr>
          <p:spPr>
            <a:xfrm>
              <a:off x="433440" y="532800"/>
              <a:ext cx="216360" cy="54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5724360" y="1125360"/>
            <a:ext cx="3095640" cy="2113200"/>
            <a:chOff x="5724360" y="1125360"/>
            <a:chExt cx="3095640" cy="2113200"/>
          </a:xfrm>
        </p:grpSpPr>
        <p:pic>
          <p:nvPicPr>
            <p:cNvPr id="205" name="Object 3" descr=""/>
            <p:cNvPicPr/>
            <p:nvPr/>
          </p:nvPicPr>
          <p:blipFill>
            <a:blip r:embed="rId1"/>
            <a:stretch/>
          </p:blipFill>
          <p:spPr>
            <a:xfrm>
              <a:off x="5724360" y="1125360"/>
              <a:ext cx="3095640" cy="211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Group 4"/>
            <p:cNvGrpSpPr/>
            <p:nvPr/>
          </p:nvGrpSpPr>
          <p:grpSpPr>
            <a:xfrm>
              <a:off x="7237080" y="1612800"/>
              <a:ext cx="185400" cy="730080"/>
              <a:chOff x="7237080" y="1612800"/>
              <a:chExt cx="185400" cy="730080"/>
            </a:xfrm>
          </p:grpSpPr>
          <p:sp>
            <p:nvSpPr>
              <p:cNvPr id="207" name="Line 5"/>
              <p:cNvSpPr/>
              <p:nvPr/>
            </p:nvSpPr>
            <p:spPr>
              <a:xfrm flipV="1">
                <a:off x="7237080" y="1612800"/>
                <a:ext cx="185400" cy="73008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6"/>
              <p:cNvSpPr/>
              <p:nvPr/>
            </p:nvSpPr>
            <p:spPr>
              <a:xfrm>
                <a:off x="7237080" y="2148120"/>
                <a:ext cx="92160" cy="8352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Text Box 8"/>
          <p:cNvSpPr/>
          <p:nvPr/>
        </p:nvSpPr>
        <p:spPr>
          <a:xfrm>
            <a:off x="144360" y="1428840"/>
            <a:ext cx="899964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解：一共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指向红色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结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指向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红色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)=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指向红色或黄色一共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，   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指向红色或黄色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=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不指向红色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不指向红色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=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ject 9" descr=""/>
          <p:cNvPicPr/>
          <p:nvPr/>
        </p:nvPicPr>
        <p:blipFill>
          <a:blip r:embed="rId2"/>
          <a:stretch/>
        </p:blipFill>
        <p:spPr>
          <a:xfrm>
            <a:off x="3214800" y="2571840"/>
            <a:ext cx="357120" cy="88560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10" descr=""/>
          <p:cNvPicPr/>
          <p:nvPr/>
        </p:nvPicPr>
        <p:blipFill>
          <a:blip r:embed="rId3"/>
          <a:stretch/>
        </p:blipFill>
        <p:spPr>
          <a:xfrm>
            <a:off x="4500720" y="4000680"/>
            <a:ext cx="285480" cy="89820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11" descr=""/>
          <p:cNvPicPr/>
          <p:nvPr/>
        </p:nvPicPr>
        <p:blipFill>
          <a:blip r:embed="rId4"/>
          <a:stretch/>
        </p:blipFill>
        <p:spPr>
          <a:xfrm>
            <a:off x="4286160" y="5429160"/>
            <a:ext cx="227160" cy="7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{A5E4A445-8A2E-4552-97BC-C09CD7E9B4D8}"/>
          <p:cNvPicPr/>
          <p:nvPr/>
        </p:nvPicPr>
        <p:blipFill>
          <a:blip r:embed="rId1"/>
          <a:stretch/>
        </p:blipFill>
        <p:spPr>
          <a:xfrm>
            <a:off x="324000" y="1486080"/>
            <a:ext cx="3730320" cy="4898880"/>
          </a:xfrm>
          <a:prstGeom prst="rect">
            <a:avLst/>
          </a:prstGeom>
          <a:ln w="0">
            <a:noFill/>
          </a:ln>
        </p:spPr>
      </p:pic>
      <p:sp>
        <p:nvSpPr>
          <p:cNvPr id="214" name="Line 3"/>
          <p:cNvSpPr/>
          <p:nvPr/>
        </p:nvSpPr>
        <p:spPr>
          <a:xfrm>
            <a:off x="828720" y="4076640"/>
            <a:ext cx="1224000" cy="180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900000" y="4941720"/>
            <a:ext cx="1154160" cy="180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900000" y="4005360"/>
            <a:ext cx="1800" cy="93816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2052720" y="4078440"/>
            <a:ext cx="1440" cy="865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214880" y="1500120"/>
            <a:ext cx="414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图：计算机扫雷游戏，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×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小方格中，随机埋藏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每个小方格至多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小王开始随机点击一个小方格，标号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周围的正方形中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我们把该区域记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外记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，，下一步小王应该点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还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内的小方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20" name="Rectangle 11"/>
            <p:cNvSpPr/>
            <p:nvPr/>
          </p:nvSpPr>
          <p:spPr>
            <a:xfrm>
              <a:off x="0" y="836640"/>
              <a:ext cx="2793240" cy="25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变练演编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深化提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03320" y="785520"/>
              <a:ext cx="827280" cy="20376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13640" y="950400"/>
              <a:ext cx="206640" cy="101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03320" y="581760"/>
              <a:ext cx="827280" cy="254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103320" y="530640"/>
              <a:ext cx="825480" cy="1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13640" y="530640"/>
              <a:ext cx="206640" cy="507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{A5E4A445-8A2E-4552-97BC-C09CD7E9B4D8}"/>
          <p:cNvPicPr/>
          <p:nvPr/>
        </p:nvPicPr>
        <p:blipFill>
          <a:blip r:embed="rId1"/>
          <a:stretch/>
        </p:blipFill>
        <p:spPr>
          <a:xfrm>
            <a:off x="5219640" y="693720"/>
            <a:ext cx="3673440" cy="5614920"/>
          </a:xfrm>
          <a:prstGeom prst="rect">
            <a:avLst/>
          </a:prstGeom>
          <a:ln w="0">
            <a:noFill/>
          </a:ln>
        </p:spPr>
      </p:pic>
      <p:sp>
        <p:nvSpPr>
          <p:cNvPr id="228" name="Line 3"/>
          <p:cNvSpPr/>
          <p:nvPr/>
        </p:nvSpPr>
        <p:spPr>
          <a:xfrm>
            <a:off x="5796000" y="3646440"/>
            <a:ext cx="1081080" cy="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5796000" y="4726080"/>
            <a:ext cx="1081080" cy="144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5796000" y="3718080"/>
            <a:ext cx="1440" cy="100800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6877080" y="3646440"/>
            <a:ext cx="0" cy="107964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6360" y="4581360"/>
            <a:ext cx="529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/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/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以第二步点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-36360" y="620640"/>
            <a:ext cx="5217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小方格，其中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雷，点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域遇雷的概率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/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2276640"/>
            <a:ext cx="52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×9-9=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个）小方格，其中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-3=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0" y="3502080"/>
            <a:ext cx="518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点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域遇到地雷的概率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/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5002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例如：一个不透明的袋子里有１个红球，３个白球和５个黄球，每一个球除颜色外都相同，从中任意摸出一个球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12720" y="4149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红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12720" y="4941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白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9640" y="5877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黄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3637080" y="3789360"/>
            <a:ext cx="713880" cy="1010520"/>
            <a:chOff x="3637080" y="3789360"/>
            <a:chExt cx="713880" cy="1010520"/>
          </a:xfrm>
        </p:grpSpPr>
        <p:sp>
          <p:nvSpPr>
            <p:cNvPr id="241" name="Text Box 8"/>
            <p:cNvSpPr/>
            <p:nvPr/>
          </p:nvSpPr>
          <p:spPr>
            <a:xfrm>
              <a:off x="3716280" y="3789360"/>
              <a:ext cx="39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3637080" y="3944520"/>
              <a:ext cx="5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3716280" y="4157280"/>
              <a:ext cx="63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3637080" y="4581360"/>
            <a:ext cx="642600" cy="1048680"/>
            <a:chOff x="3637080" y="4581360"/>
            <a:chExt cx="642600" cy="1048680"/>
          </a:xfrm>
        </p:grpSpPr>
        <p:sp>
          <p:nvSpPr>
            <p:cNvPr id="245" name="Text Box 12"/>
            <p:cNvSpPr/>
            <p:nvPr/>
          </p:nvSpPr>
          <p:spPr>
            <a:xfrm>
              <a:off x="3709080" y="4581360"/>
              <a:ext cx="35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3637080" y="4716720"/>
              <a:ext cx="5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3704040" y="4987440"/>
              <a:ext cx="5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5"/>
          <p:cNvGrpSpPr/>
          <p:nvPr/>
        </p:nvGrpSpPr>
        <p:grpSpPr>
          <a:xfrm>
            <a:off x="3492360" y="5518080"/>
            <a:ext cx="681120" cy="999000"/>
            <a:chOff x="3492360" y="5518080"/>
            <a:chExt cx="681120" cy="999000"/>
          </a:xfrm>
        </p:grpSpPr>
        <p:sp>
          <p:nvSpPr>
            <p:cNvPr id="249" name="Text Box 16"/>
            <p:cNvSpPr/>
            <p:nvPr/>
          </p:nvSpPr>
          <p:spPr>
            <a:xfrm>
              <a:off x="3563640" y="55180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7"/>
            <p:cNvSpPr/>
            <p:nvPr/>
          </p:nvSpPr>
          <p:spPr>
            <a:xfrm>
              <a:off x="3492360" y="56606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8"/>
            <p:cNvSpPr/>
            <p:nvPr/>
          </p:nvSpPr>
          <p:spPr>
            <a:xfrm>
              <a:off x="3563640" y="58744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53" name="Rectangle 11"/>
            <p:cNvSpPr/>
            <p:nvPr/>
          </p:nvSpPr>
          <p:spPr>
            <a:xfrm>
              <a:off x="0" y="836640"/>
              <a:ext cx="2793240" cy="25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变练演编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深化提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103320" y="785520"/>
              <a:ext cx="827280" cy="20376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413640" y="950400"/>
              <a:ext cx="206640" cy="101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103320" y="581760"/>
              <a:ext cx="827280" cy="254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103320" y="530640"/>
              <a:ext cx="825480" cy="1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413640" y="530640"/>
              <a:ext cx="206640" cy="507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26"/>
          <p:cNvSpPr/>
          <p:nvPr/>
        </p:nvSpPr>
        <p:spPr>
          <a:xfrm>
            <a:off x="214200" y="14288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你能列举一些用概率刻画随机事件可能性大小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14240" y="4429080"/>
            <a:ext cx="7925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然事件Ａ，则Ｐ（Ａ）＝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不可能事件Ｂ，则Ｐ（Ｂ）＝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随机事件Ｃ，则０＜Ｐ（Ｃ）＜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85880" y="16430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率的定义、求法、及取值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571680" y="235728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如果在一次实验中，有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种可能的结果，并且他们发生的可能性都相等，事件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包含其中的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种结果，那么事件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发生的概率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P(A)=m/n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357200" y="37861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≤m≤n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，有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 ≤ m/n≤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6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66" name="Rectangle 17"/>
            <p:cNvSpPr/>
            <p:nvPr/>
          </p:nvSpPr>
          <p:spPr>
            <a:xfrm>
              <a:off x="0" y="839160"/>
              <a:ext cx="27932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反思小结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观点提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03320" y="787680"/>
              <a:ext cx="827280" cy="2052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413640" y="953640"/>
              <a:ext cx="206640" cy="1026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03320" y="582480"/>
              <a:ext cx="827280" cy="256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103320" y="531000"/>
              <a:ext cx="825480" cy="10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3"/>
            <p:cNvSpPr/>
            <p:nvPr/>
          </p:nvSpPr>
          <p:spPr>
            <a:xfrm>
              <a:off x="413640" y="531000"/>
              <a:ext cx="206640" cy="511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3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-101,9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101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-101,9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101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285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掷一个质地均匀的正方体骰子，观察向上一面的点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求掷得点数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概率；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小明在做掷骰子的试验时，前五次都没掷得点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求他第六次掷得点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概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214200" y="32839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解：掷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个质地均匀的正方体骰子，向上一面的点数可能为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种。这些点数出现的可能性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08000" y="4148640"/>
            <a:ext cx="792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掷得点数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记为事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结果，因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      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Object 6" descr=""/>
          <p:cNvPicPr/>
          <p:nvPr/>
        </p:nvPicPr>
        <p:blipFill>
          <a:blip r:embed="rId1"/>
          <a:stretch/>
        </p:blipFill>
        <p:spPr>
          <a:xfrm>
            <a:off x="2843280" y="450864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108000" y="51577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小明前五次都没掷得点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可他第六次掷得点数仍然可能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。他第六次掷得点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记为事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结果，因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(B)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ject 9" descr=""/>
          <p:cNvPicPr/>
          <p:nvPr/>
        </p:nvPicPr>
        <p:blipFill>
          <a:blip r:embed="rId2"/>
          <a:stretch/>
        </p:blipFill>
        <p:spPr>
          <a:xfrm>
            <a:off x="6013440" y="595008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-704880" y="3623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0" y="57168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推荐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20760" y="-1679400"/>
            <a:ext cx="8778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8"/>
          <p:cNvGrpSpPr/>
          <p:nvPr/>
        </p:nvGrpSpPr>
        <p:grpSpPr>
          <a:xfrm>
            <a:off x="0" y="500040"/>
            <a:ext cx="3285360" cy="650880"/>
            <a:chOff x="0" y="500040"/>
            <a:chExt cx="3285360" cy="650880"/>
          </a:xfrm>
        </p:grpSpPr>
        <p:sp>
          <p:nvSpPr>
            <p:cNvPr id="48" name="Rectangle 19"/>
            <p:cNvSpPr/>
            <p:nvPr/>
          </p:nvSpPr>
          <p:spPr>
            <a:xfrm>
              <a:off x="0" y="870480"/>
              <a:ext cx="3059280" cy="28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20"/>
            <p:cNvSpPr/>
            <p:nvPr/>
          </p:nvSpPr>
          <p:spPr>
            <a:xfrm>
              <a:off x="1019520" y="500040"/>
              <a:ext cx="226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设计问题，创设情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113400" y="814320"/>
              <a:ext cx="906120" cy="2242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453240" y="995760"/>
              <a:ext cx="226440" cy="111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13400" y="590040"/>
              <a:ext cx="906120" cy="280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4"/>
            <p:cNvSpPr/>
            <p:nvPr/>
          </p:nvSpPr>
          <p:spPr>
            <a:xfrm>
              <a:off x="113400" y="533880"/>
              <a:ext cx="903960" cy="1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5"/>
            <p:cNvSpPr/>
            <p:nvPr/>
          </p:nvSpPr>
          <p:spPr>
            <a:xfrm>
              <a:off x="453240" y="533880"/>
              <a:ext cx="226440" cy="561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1"/>
          <p:cNvSpPr/>
          <p:nvPr/>
        </p:nvSpPr>
        <p:spPr>
          <a:xfrm>
            <a:off x="214200" y="1643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试验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从分别标有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.2.3.4.5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号的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张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形状、大小相同的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纸签中随机抽取一张，抽出的签上的标号有几种可能？每个标号被抽出的可能性大小相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85840" y="378612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：由于纸签的形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小相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又是随机抽取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以可能的结果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,2,3,4,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共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由此可以认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个号被抽到的可能性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是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1979640" y="5143680"/>
            <a:ext cx="428760" cy="111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0760" y="-1679400"/>
            <a:ext cx="8778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8"/>
          <p:cNvGrpSpPr/>
          <p:nvPr/>
        </p:nvGrpSpPr>
        <p:grpSpPr>
          <a:xfrm>
            <a:off x="0" y="500040"/>
            <a:ext cx="3285360" cy="650880"/>
            <a:chOff x="0" y="500040"/>
            <a:chExt cx="3285360" cy="650880"/>
          </a:xfrm>
        </p:grpSpPr>
        <p:sp>
          <p:nvSpPr>
            <p:cNvPr id="60" name="Rectangle 19"/>
            <p:cNvSpPr/>
            <p:nvPr/>
          </p:nvSpPr>
          <p:spPr>
            <a:xfrm>
              <a:off x="0" y="870480"/>
              <a:ext cx="3059280" cy="28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0"/>
            <p:cNvSpPr/>
            <p:nvPr/>
          </p:nvSpPr>
          <p:spPr>
            <a:xfrm>
              <a:off x="1019520" y="500040"/>
              <a:ext cx="226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设计问题，创设情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13400" y="814320"/>
              <a:ext cx="906120" cy="2242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53240" y="995760"/>
              <a:ext cx="226440" cy="111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13400" y="590040"/>
              <a:ext cx="906120" cy="280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113400" y="533880"/>
              <a:ext cx="903960" cy="1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453240" y="533880"/>
              <a:ext cx="226440" cy="561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 14"/>
          <p:cNvSpPr/>
          <p:nvPr/>
        </p:nvSpPr>
        <p:spPr>
          <a:xfrm>
            <a:off x="357120" y="17859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试验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抛掷一个质地均匀的骰子，它落地时向上的点数有几种可能？分别是什么？发生的可能性大小一样吗？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214200" y="407196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：由于骰子质地均匀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又是随机掷出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以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等可能的结果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1,2,3,4,5,6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因此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种结果的可能性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是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ject 9" descr=""/>
          <p:cNvPicPr/>
          <p:nvPr/>
        </p:nvPicPr>
        <p:blipFill>
          <a:blip r:embed="rId1"/>
          <a:stretch/>
        </p:blipFill>
        <p:spPr>
          <a:xfrm>
            <a:off x="5869080" y="5013360"/>
            <a:ext cx="2887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378936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72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4"/>
          <p:cNvSpPr/>
          <p:nvPr/>
        </p:nvSpPr>
        <p:spPr>
          <a:xfrm>
            <a:off x="571680" y="2500200"/>
            <a:ext cx="76435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概率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般地，对于一个随机事件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把刻画其发生可能性大小的数值，称之为随机事件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发生的概率，记为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2857680" y="1714680"/>
            <a:ext cx="4128840" cy="1428480"/>
          </a:xfrm>
          <a:prstGeom prst="wedgeRoundRectCallout">
            <a:avLst>
              <a:gd name="adj1" fmla="val -19578"/>
              <a:gd name="adj2" fmla="val 131402"/>
              <a:gd name="adj3" fmla="val 16667"/>
            </a:avLst>
          </a:prstGeom>
          <a:solidFill>
            <a:srgbClr val="ffff66"/>
          </a:solidFill>
          <a:ln w="381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率从数量上刻画了一个随机事件发生的可能性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内容占位符 2"/>
          <p:cNvSpPr/>
          <p:nvPr/>
        </p:nvSpPr>
        <p:spPr>
          <a:xfrm>
            <a:off x="0" y="3214800"/>
            <a:ext cx="87868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共同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一次试验中，可能出现的结果只有有限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一次试验中，各种结果出现的可能性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83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15"/>
          <p:cNvSpPr/>
          <p:nvPr/>
        </p:nvSpPr>
        <p:spPr>
          <a:xfrm>
            <a:off x="214200" y="142884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合作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以上两个试验有哪些共同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714240" y="35719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抽到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号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)=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14240" y="5715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抽到偶数号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)=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8532720" y="2060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781440" y="25653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9200" y="206064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上面抽签试验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抽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事件包含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能结果，在全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等可能的结果中所占的比为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于是这个事件的概率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12720" y="307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732720" y="422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28760" y="4643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1857240" y="4643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3203640" y="5157720"/>
            <a:ext cx="8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0" y="414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再如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抽到偶数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事件包含抽到     和（ ）这    种可能结果，在全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等可能结果中所占的比为（   ），于是这个事件的概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03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7"/>
          <p:cNvSpPr/>
          <p:nvPr/>
        </p:nvSpPr>
        <p:spPr>
          <a:xfrm>
            <a:off x="142920" y="15001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324000" y="836640"/>
            <a:ext cx="8362800" cy="365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般地，如果在一次试验中，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可能的结果，并且它们发生的可能性都相等，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包含其中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结果，数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频数，比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/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频率，也即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概率           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6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027160" cy="1409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-2430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黑体"/>
              </a:rPr>
              <a:t>等可能事件概率的求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95280" y="551664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在一次试验中所有等可能的结果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无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包含的所有等可能的结果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01480" y="2286000"/>
            <a:ext cx="864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记随机事件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在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次试验中发生了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那么在                    中，由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和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的含义可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≤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进而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      ≤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，因此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P(A) ≤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7" descr=""/>
          <p:cNvPicPr/>
          <p:nvPr/>
        </p:nvPicPr>
        <p:blipFill>
          <a:blip r:embed="rId1"/>
          <a:stretch/>
        </p:blipFill>
        <p:spPr>
          <a:xfrm>
            <a:off x="1836720" y="3357720"/>
            <a:ext cx="1873440" cy="105408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8" descr=""/>
          <p:cNvPicPr/>
          <p:nvPr/>
        </p:nvPicPr>
        <p:blipFill>
          <a:blip r:embed="rId2"/>
          <a:stretch/>
        </p:blipFill>
        <p:spPr>
          <a:xfrm>
            <a:off x="4356000" y="4292640"/>
            <a:ext cx="35712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19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12"/>
          <p:cNvSpPr/>
          <p:nvPr/>
        </p:nvSpPr>
        <p:spPr>
          <a:xfrm>
            <a:off x="1458360" y="1500120"/>
            <a:ext cx="463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思考：根据求概率的方法，事件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概率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的取值范围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392480" y="142884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Ａ是必然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9280" y="2349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Ａ是不可能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1106280" y="4724280"/>
            <a:ext cx="6268320" cy="865080"/>
            <a:chOff x="1106280" y="4724280"/>
            <a:chExt cx="6268320" cy="865080"/>
          </a:xfrm>
        </p:grpSpPr>
        <p:sp>
          <p:nvSpPr>
            <p:cNvPr id="130" name="Line 6"/>
            <p:cNvSpPr/>
            <p:nvPr/>
          </p:nvSpPr>
          <p:spPr>
            <a:xfrm>
              <a:off x="1258920" y="5587920"/>
              <a:ext cx="5834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1258920" y="5370840"/>
              <a:ext cx="144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7093080" y="5370840"/>
              <a:ext cx="144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4140360" y="5443560"/>
              <a:ext cx="144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110628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6991200" y="4816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12"/>
          <p:cNvSpPr/>
          <p:nvPr/>
        </p:nvSpPr>
        <p:spPr>
          <a:xfrm flipH="1">
            <a:off x="1403280" y="5157720"/>
            <a:ext cx="5400720" cy="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2197080" y="59500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发生的可能性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692360" y="458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事件发生的可能性越来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4920" y="587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能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929280" y="60008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然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7422840" y="515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概率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1476360" y="5877000"/>
            <a:ext cx="54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15840" y="1916280"/>
            <a:ext cx="9128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71680" y="1857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必然事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5000760" y="1857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072120" y="18572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58640" y="2997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411880" y="2997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012000" y="2997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3"/>
          <p:cNvGrpSpPr/>
          <p:nvPr/>
        </p:nvGrpSpPr>
        <p:grpSpPr>
          <a:xfrm>
            <a:off x="1598760" y="3533760"/>
            <a:ext cx="6084360" cy="1190520"/>
            <a:chOff x="1598760" y="3533760"/>
            <a:chExt cx="6084360" cy="1190520"/>
          </a:xfrm>
        </p:grpSpPr>
        <p:sp>
          <p:nvSpPr>
            <p:cNvPr id="151" name="Rectangle 30"/>
            <p:cNvSpPr/>
            <p:nvPr/>
          </p:nvSpPr>
          <p:spPr>
            <a:xfrm>
              <a:off x="1598760" y="3533760"/>
              <a:ext cx="608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d7d31"/>
                  </a:solidFill>
                  <a:latin typeface="黑体"/>
                  <a:ea typeface="黑体"/>
                </a:rPr>
                <a:t>3.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确定事件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发生的可能性是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大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0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而小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即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随机事件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Object 31" descr=""/>
            <p:cNvPicPr/>
            <p:nvPr/>
          </p:nvPicPr>
          <p:blipFill>
            <a:blip r:embed="rId1"/>
            <a:stretch/>
          </p:blipFill>
          <p:spPr>
            <a:xfrm>
              <a:off x="4284720" y="4059360"/>
              <a:ext cx="223200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20"/>
          <p:cNvGrpSpPr/>
          <p:nvPr/>
        </p:nvGrpSpPr>
        <p:grpSpPr>
          <a:xfrm>
            <a:off x="0" y="428760"/>
            <a:ext cx="3071520" cy="532440"/>
            <a:chOff x="0" y="428760"/>
            <a:chExt cx="3071520" cy="532440"/>
          </a:xfrm>
        </p:grpSpPr>
        <p:sp>
          <p:nvSpPr>
            <p:cNvPr id="154" name="Rectangle 21"/>
            <p:cNvSpPr/>
            <p:nvPr/>
          </p:nvSpPr>
          <p:spPr>
            <a:xfrm>
              <a:off x="0" y="73188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864360" y="42876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96120" y="68616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84120" y="83448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96120" y="50220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96120" y="45648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384120" y="45648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3:07:00Z</dcterms:created>
  <dc:creator>liu</dc:creator>
  <dc:description/>
  <dc:language>en-US</dc:language>
  <cp:lastModifiedBy>Administrator</cp:lastModifiedBy>
  <dcterms:modified xsi:type="dcterms:W3CDTF">2018-12-29T07:37:25Z</dcterms:modified>
  <cp:revision>124</cp:revision>
  <dc:subject/>
  <dc:title>10.1    统计调查（一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